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436-28E2-487C-8331-0E3450C6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D05-CCC9-45C3-BF7F-9734E4E1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3E6-52A3-47D2-945B-60498E8E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EC1-3106-42BC-AA04-912C3342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F5E6-6CA6-4C6E-B731-134F3CBF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F95-5028-4E8E-A628-14ABF5C8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38A-6023-4FBF-9BEF-CB85DB2F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B71-2D09-4A9C-8EB6-5634579B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1E9-B4CD-4FFC-94D0-A2E0E752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A0B-5449-4804-B514-C94FF86E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13E-F0D2-46AE-9536-DC54116D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960-3D6B-4610-B9C3-DC9F77EC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3A76-2BA1-403E-9C3B-A143AB591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0000" y="3716280"/>
            <a:ext cx="6705720" cy="914400"/>
            <a:chOff x="900000" y="3716280"/>
            <a:chExt cx="6705720" cy="914400"/>
          </a:xfrm>
        </p:grpSpPr>
        <p:sp>
          <p:nvSpPr>
            <p:cNvPr id="42" name=""/>
            <p:cNvSpPr/>
            <p:nvPr/>
          </p:nvSpPr>
          <p:spPr>
            <a:xfrm>
              <a:off x="900000" y="3716280"/>
              <a:ext cx="670572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128600" y="39448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119320" y="394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3635280" y="3789360"/>
                  <a:ext cx="3673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1763640" y="404640"/>
            <a:ext cx="53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84360" y="98100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00000" y="2060640"/>
            <a:ext cx="6705360" cy="609480"/>
            <a:chOff x="900000" y="206064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00000" y="206064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052280" y="206064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118960" y="213696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00000" y="2924280"/>
            <a:ext cx="6705360" cy="609480"/>
            <a:chOff x="900000" y="292428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00000" y="292428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28600" y="300024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118960" y="300024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00000" y="4797360"/>
            <a:ext cx="6705360" cy="685800"/>
            <a:chOff x="900000" y="479736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00000" y="487332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128600" y="479736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195280" y="4949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00400" y="479736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00000" y="5661000"/>
            <a:ext cx="6705360" cy="611280"/>
            <a:chOff x="900000" y="566100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00000" y="566100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128600" y="573732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195280" y="57373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395680" y="566100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716360" y="3645000"/>
            <a:ext cx="16560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20000" y="2852640"/>
            <a:ext cx="1152360" cy="792360"/>
            <a:chOff x="7020000" y="2852640"/>
            <a:chExt cx="1152360" cy="792360"/>
          </a:xfrm>
        </p:grpSpPr>
        <p:sp>
          <p:nvSpPr>
            <p:cNvPr id="68" name=""/>
            <p:cNvSpPr/>
            <p:nvPr/>
          </p:nvSpPr>
          <p:spPr>
            <a:xfrm>
              <a:off x="7020000" y="2852640"/>
              <a:ext cx="1152360" cy="792360"/>
            </a:xfrm>
            <a:prstGeom prst="wedgeRoundRectCallout">
              <a:avLst>
                <a:gd name="adj1" fmla="val -111157"/>
                <a:gd name="adj2" fmla="val 75652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16840" y="30114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92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２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4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7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0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0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826920" y="5805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2728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4922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32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37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476360" y="189000"/>
                <a:ext cx="5711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059280" y="134136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481120" y="1300320"/>
                <a:ext cx="316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26920" y="5300640"/>
            <a:ext cx="68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様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>
            <a:off x="327672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565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466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471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403280" y="189000"/>
                <a:ext cx="5748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060720" y="128124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14520" y="1281240"/>
                <a:ext cx="451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971640" y="58770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ることができない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flipV="1">
            <a:off x="262728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27280" y="2565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500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505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95280" y="5661000"/>
                <a:ext cx="8143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は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のみからなる語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32400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623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0920" y="33336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1280" y="477720"/>
            <a:ext cx="685440" cy="1067040"/>
            <a:chOff x="5291280" y="477720"/>
            <a:chExt cx="685440" cy="1067040"/>
          </a:xfrm>
        </p:grpSpPr>
        <p:sp>
          <p:nvSpPr>
            <p:cNvPr id="525" name=""/>
            <p:cNvSpPr/>
            <p:nvPr/>
          </p:nvSpPr>
          <p:spPr>
            <a:xfrm>
              <a:off x="5291280" y="47772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853600" y="115884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219640" y="1341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89480" y="1414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362560" y="4006800"/>
            <a:ext cx="685800" cy="1066680"/>
            <a:chOff x="5362560" y="4006800"/>
            <a:chExt cx="685800" cy="1066680"/>
          </a:xfrm>
        </p:grpSpPr>
        <p:sp>
          <p:nvSpPr>
            <p:cNvPr id="530" name=""/>
            <p:cNvSpPr/>
            <p:nvPr/>
          </p:nvSpPr>
          <p:spPr>
            <a:xfrm>
              <a:off x="5362560" y="4006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402880" y="41234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V="1">
            <a:off x="3633840" y="1846440"/>
            <a:ext cx="1584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62200" y="285444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7160" y="233856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30680" y="218592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335916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62560" y="3430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21120" y="17748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929120" y="550800"/>
                <a:ext cx="292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505480" y="357516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016080" y="232416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081840" y="422280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994200" y="26384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433840" y="1487520"/>
                <a:ext cx="3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18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692280"/>
                <a:ext cx="414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1116000" y="1341360"/>
            <a:ext cx="6400800" cy="609480"/>
            <a:chOff x="1116000" y="1341360"/>
            <a:chExt cx="6400800" cy="609480"/>
          </a:xfrm>
        </p:grpSpPr>
        <p:sp>
          <p:nvSpPr>
            <p:cNvPr id="73" name=""/>
            <p:cNvSpPr/>
            <p:nvPr/>
          </p:nvSpPr>
          <p:spPr>
            <a:xfrm>
              <a:off x="1116000" y="1341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03280" y="1393560"/>
                  <a:ext cx="2060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1116000" y="1989000"/>
            <a:ext cx="6400800" cy="609840"/>
            <a:chOff x="1116000" y="1989000"/>
            <a:chExt cx="6400800" cy="609840"/>
          </a:xfrm>
        </p:grpSpPr>
        <p:sp>
          <p:nvSpPr>
            <p:cNvPr id="76" name=""/>
            <p:cNvSpPr/>
            <p:nvPr/>
          </p:nvSpPr>
          <p:spPr>
            <a:xfrm>
              <a:off x="1116000" y="198900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476360" y="1989000"/>
                  <a:ext cx="1584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1116000" y="5013360"/>
            <a:ext cx="6400800" cy="685800"/>
            <a:chOff x="1116000" y="501336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1116000" y="501336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19280" y="5013360"/>
                  <a:ext cx="115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16000" y="5805360"/>
            <a:ext cx="6400800" cy="609480"/>
            <a:chOff x="1116000" y="5805360"/>
            <a:chExt cx="6400800" cy="609480"/>
          </a:xfrm>
        </p:grpSpPr>
        <p:sp>
          <p:nvSpPr>
            <p:cNvPr id="82" name=""/>
            <p:cNvSpPr/>
            <p:nvPr/>
          </p:nvSpPr>
          <p:spPr>
            <a:xfrm>
              <a:off x="1116000" y="5805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5877000"/>
                  <a:ext cx="1657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16000" y="2708280"/>
            <a:ext cx="6408720" cy="2230560"/>
            <a:chOff x="1116000" y="2708280"/>
            <a:chExt cx="6408720" cy="2230560"/>
          </a:xfrm>
        </p:grpSpPr>
        <p:sp>
          <p:nvSpPr>
            <p:cNvPr id="85" name=""/>
            <p:cNvSpPr/>
            <p:nvPr/>
          </p:nvSpPr>
          <p:spPr>
            <a:xfrm>
              <a:off x="1116000" y="2708280"/>
              <a:ext cx="6408720" cy="223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908000" y="3429000"/>
                  <a:ext cx="53341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403280" y="2781360"/>
                  <a:ext cx="396072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0360" y="4941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40360" y="4149720"/>
                <a:ext cx="2187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51640" y="270828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96000" y="765000"/>
                <a:ext cx="2477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4284720" y="4869000"/>
            <a:ext cx="685800" cy="1066680"/>
            <a:chOff x="4284720" y="4869000"/>
            <a:chExt cx="685800" cy="1066680"/>
          </a:xfrm>
        </p:grpSpPr>
        <p:sp>
          <p:nvSpPr>
            <p:cNvPr id="93" name=""/>
            <p:cNvSpPr/>
            <p:nvPr/>
          </p:nvSpPr>
          <p:spPr>
            <a:xfrm>
              <a:off x="4284720" y="48690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25040" y="49856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11640" y="1341360"/>
            <a:ext cx="685800" cy="1067040"/>
            <a:chOff x="4211640" y="1341360"/>
            <a:chExt cx="685800" cy="1067040"/>
          </a:xfrm>
        </p:grpSpPr>
        <p:sp>
          <p:nvSpPr>
            <p:cNvPr id="96" name=""/>
            <p:cNvSpPr/>
            <p:nvPr/>
          </p:nvSpPr>
          <p:spPr>
            <a:xfrm>
              <a:off x="4211640" y="134136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774680" y="202248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47640" y="40464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556000" y="270792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716280"/>
            <a:ext cx="172728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205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2926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26370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51280" y="141300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27640" y="443700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56000" y="234936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38240" y="3186000"/>
                <a:ext cx="453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08464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16360" y="3500280"/>
                <a:ext cx="293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211640" y="227664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49360"/>
            <a:ext cx="3384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0360" y="765000"/>
                <a:ext cx="1382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43564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56360" y="765000"/>
                <a:ext cx="1990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508720" y="549360"/>
            <a:ext cx="3384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276640"/>
            <a:ext cx="3672000" cy="13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940360" y="278136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21964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2781360"/>
                <a:ext cx="2350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29272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4076640"/>
            <a:ext cx="316836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40360" y="4365720"/>
                <a:ext cx="206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5157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580000" y="4076640"/>
            <a:ext cx="3168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156360" y="4581360"/>
                <a:ext cx="2228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56360" y="5373720"/>
                <a:ext cx="21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1640" y="4365720"/>
            <a:ext cx="31683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27120" y="227160"/>
                <a:ext cx="5564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40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43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80536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28472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あ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084640"/>
                <a:ext cx="2187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73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76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22766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672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 flipV="1">
            <a:off x="471636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0" y="1125360"/>
            <a:ext cx="1224000" cy="648000"/>
            <a:chOff x="4572000" y="1125360"/>
            <a:chExt cx="1224000" cy="648000"/>
          </a:xfrm>
        </p:grpSpPr>
        <p:sp>
          <p:nvSpPr>
            <p:cNvPr id="198" name=""/>
            <p:cNvSpPr/>
            <p:nvPr/>
          </p:nvSpPr>
          <p:spPr>
            <a:xfrm>
              <a:off x="4572000" y="1125360"/>
              <a:ext cx="1224000" cy="648000"/>
            </a:xfrm>
            <a:prstGeom prst="wedgeRoundRectCallout">
              <a:avLst>
                <a:gd name="adj1" fmla="val 32750"/>
                <a:gd name="adj2" fmla="val 17107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0920" y="12366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00720" y="4724280"/>
            <a:ext cx="1223640" cy="648000"/>
            <a:chOff x="4500720" y="4724280"/>
            <a:chExt cx="1223640" cy="648000"/>
          </a:xfrm>
        </p:grpSpPr>
        <p:sp>
          <p:nvSpPr>
            <p:cNvPr id="201" name=""/>
            <p:cNvSpPr/>
            <p:nvPr/>
          </p:nvSpPr>
          <p:spPr>
            <a:xfrm>
              <a:off x="4500720" y="4724280"/>
              <a:ext cx="1223640" cy="648000"/>
            </a:xfrm>
            <a:prstGeom prst="wedgeRoundRectCallout">
              <a:avLst>
                <a:gd name="adj1" fmla="val 37810"/>
                <a:gd name="adj2" fmla="val -19485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4797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82692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14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17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4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255600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49228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7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59500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て，受理状態に遷移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299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55640" y="580536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492360" y="59500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6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15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6:32:05Z</dcterms:modified>
  <cp:revision>30</cp:revision>
  <dc:subject/>
  <dc:title>PowerPoint プレゼンテーション</dc:title>
</cp:coreProperties>
</file>